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0FA-BAF3-4ABC-9222-009542A1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873-697B-4C9F-B5E7-91AF6BD5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68F-60CF-4A58-867E-80A6A48F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09A-7658-4BD2-A101-EFD0BDA4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25F-00C8-4C6B-8A5E-D7616601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15D-2667-43AE-B7FF-D1107F09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911-BFCB-4051-9854-B28E693B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43E-9B7D-4283-BF97-F4FB7216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9FE-97FB-49DE-8A3B-C61D39BA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F61-6177-49CF-8E56-41E9572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C38-A380-4596-9983-87F4016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B42-F7BD-4BD1-B4FE-DA2826BC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3DE9-A374-4ADA-8E20-A41542EC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 Clase 6NH 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1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699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mas jugar o dorm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full Spanish sentences, Write 2 things that you like and 2 things that you dis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9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t least 5 sentences in your noteboo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4:51:34Z</dcterms:created>
  <dc:creator>Helen Zumaeta</dc:creator>
  <dc:description/>
  <dc:language>en-US</dc:language>
  <cp:lastModifiedBy>Helen Zumaeta</cp:lastModifiedBy>
  <cp:lastPrinted>2013-02-11T14:15:57Z</cp:lastPrinted>
  <dcterms:modified xsi:type="dcterms:W3CDTF">2013-02-11T14:42:34Z</dcterms:modified>
  <cp:revision>13</cp:revision>
  <dc:subject/>
  <dc:title>Me llamo __________    Clase 7 IM La fecha es el 28 de enero del 2011</dc:title>
</cp:coreProperties>
</file>